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6D9-C0B5-43B1-9315-BA3875AC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49D-8D2A-45E5-8DBB-723816FA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9F0-43C1-409C-B157-4E4F5730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DBB-5299-4494-AE6A-FC6B4EEE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D1AF-069D-4E2C-BE78-882A967D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3E90-458A-4BE5-9595-E0098B0E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0C29-B7DB-4791-BFC3-ADB3D0CA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F69F-B46D-436D-87FC-477FCC35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4397-92DF-43D5-8A8A-374494EC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38D9-93A2-48C1-B547-C098EB5E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1509-2BEA-4F15-9C97-B56659D0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123-107D-428E-8A7E-FDC687E9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9122-4022-46A5-8AE1-F6968300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287B-51F8-42D3-AFC9-5D359BB5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E576-5DE6-4106-98E9-DAC83267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1C79-4268-4C26-A942-096263C6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FFB7-21A3-4DA8-8CA8-4D6237D9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D24-D0AC-40E3-B48A-905695E6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D38-2B7A-4DAE-A309-BF7B72F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6B8-EE4F-4B38-A970-15427AF4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3E7-C2A5-429A-A2E5-878B949D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95A-2281-4BC3-B1CE-C1D33EA1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664-13D6-47B8-99C0-52C0B426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F58-8AAB-41DC-8B4A-86A9A57B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DCF7-F9BB-4F9C-B413-283CEA2F8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0D19-3235-4CD5-BC5A-16905783C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омпьютер: друг или враг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97440" y="3760920"/>
            <a:ext cx="4246560" cy="309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Плюсы использования детьми компьютера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ьютер способствует развитию творческого вообр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ртуальный мир может стать для вашего ребенка и игрой, и учением одноврем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агодаря компьютеру можно получать новые знания, не выходя из до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ьютер не критик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ьютер поможет крохе увидеть все великое разнообразие ми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ьютерные игры развивают у ребен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строту реак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лкую моторику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зуальное восприятие о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мять и вним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огическое мыш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ительно-моторную координ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copmputer" descr="Это не только мамин ноутбук:)"/>
          <p:cNvPicPr/>
          <p:nvPr/>
        </p:nvPicPr>
        <p:blipFill>
          <a:blip r:embed="rId1"/>
          <a:stretch/>
        </p:blipFill>
        <p:spPr>
          <a:xfrm>
            <a:off x="7086600" y="304920"/>
            <a:ext cx="16192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омпьютерные игры учат ребенк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ифицировать и обобща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тически мыслить в нестандартной ситу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иваться своей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ершенствовать интеллектуальные навы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29400" y="525780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яд негативных факторов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должает развиваться костная система, кисть руки еще находится в стадии разви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нсивные преобразования претерпевает такая важная для обучения функция - произвольного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рушается чувство самосохра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излишней увлеченности компьютером - остается не пройденным жизненный "материал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бенок недополучает реальный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бенок сверх меры увлеченный виртуальным миром, невольно отгораживается от реальной жиз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яется интерес к нормальным детским играм и естественному всестороннему обучению и общению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того чтобы компьютер стал в вашей семье другом для ребенка, а не врагом, необходимо соблюд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так, вы познакомились, как с плюсами, так и с минусами общения ребенка с компьютером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499840"/>
            <a:ext cx="747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компьютера ребенку не обойт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умения пользоваться им юный человек почувствует себя изгоем в современном мире среди сверстников и друз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03632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лько от нас с вами зависит, сколько ребенок будет играть, какие программы освоит, чему научится, а от чего откажется, и главное — не затмит ли мир виртуальный красоту и гармонию настоящего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5791320"/>
            <a:ext cx="5715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писок литературы:</a:t>
            </a:r>
            <a:br>
              <a:rPr sz="3600"/>
            </a:br>
            <a:br>
              <a:rPr sz="36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1. Старшова Н. В. Как помочь ребёнку сохранить здоровье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//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тский сад от А до Я.-2003.- №1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2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http://referat.ru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72200" y="3505320"/>
            <a:ext cx="22096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5-29T13:04:2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